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E17F-7728-425B-8E98-2BF6BCBE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3C84-5757-4D5E-B0E2-BC523A73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3F90-393D-4D83-B411-467E86E9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751-D4A3-473B-A943-E3AF1406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330D-C891-48F2-9994-8ABC97D1B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41A3-ED95-4047-975C-441A90869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A4F-20C9-4A7C-A84F-F80A6904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BF3-61CB-4702-B261-E262F213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A42-813D-46F4-ACD7-E23DAE25B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AE7-8C6B-4927-ABC0-7E691355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BB4-C6FC-4D48-864D-B72C1CB6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160-F129-481D-8220-1B4FAAB6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251-A70A-4CA0-8007-5C0B9820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19AF-F15D-457B-91B9-BE4F21D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42C8-E32C-4BC8-9B6C-BA3CAA19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431-218F-433F-9DE0-A9404EE6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DE2-05D1-4518-9B88-77136A12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A55-0F75-42D8-AF73-33A9F6FA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341-4E88-41F4-B1E8-4C3257F6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E5CA-8671-40F8-809F-B6CB08BB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591-8617-4C90-93A2-5F390C04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EE40-A85F-47BC-A74D-EF974BDA4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332e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ile motion is a combination of Free Fall motion and 1-D Horizontal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ngularprojectilemotion 1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100000">
              <a:srgbClr val="c3aa37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types of Projecti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iles launched horizont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jectiles launched at an 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iles Launched Horizont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initial velocity in the y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y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acceleration in the 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is 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ime (t) is the only variable that is the same for both the x -  and y- direc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514600" y="441972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106668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1066680" y="2362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708660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8001000" y="4114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50000">
              <a:srgbClr val="c3aa37"/>
            </a:gs>
            <a:gs pos="100000">
              <a:srgbClr val="b24a2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quations for Projectiles Launched Horizo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505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Y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 2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y =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2209680" y="28195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8380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24382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1240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1143000" y="4800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2438280" y="48769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800600" y="1752480"/>
            <a:ext cx="3505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 = const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Symbol"/>
                <a:ea typeface="Symbol"/>
              </a:rPr>
              <a:t>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x = v</a:t>
            </a:r>
            <a:r>
              <a:rPr b="0" lang="en-US" sz="3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5257800" y="29718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5791320" y="4343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66294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6"/>
          <p:cNvSpPr/>
          <p:nvPr/>
        </p:nvSpPr>
        <p:spPr>
          <a:xfrm>
            <a:off x="114300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2362320" y="57150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jectiles Launched at 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jectile has an initial velocity in the y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y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&amp; the x-direction 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51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still no acceleration in the x-dir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0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is cons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Time (t) is the only variable that is the same for both the x -  and y- direction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590920" y="403848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743200" y="2057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708660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00100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>
            <a:off x="6553080" y="2057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 Velocity of Projec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26672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7400" indent="-61740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Font typeface="Arial"/>
              <a:buAutoNum type="arabicPeriod"/>
              <a:tabLst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X-component of the initial velocit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x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= 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cos </a:t>
            </a:r>
            <a:r>
              <a:rPr b="0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</a:t>
            </a: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Y-component of the initial veloc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y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 = 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 sin </a:t>
            </a:r>
            <a:r>
              <a:rPr b="0" lang="en-US" sz="3200" spc="-1" strike="noStrike">
                <a:solidFill>
                  <a:srgbClr val="6829c8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5351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2895480" y="480060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886200" y="48006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819520" y="6172200"/>
            <a:ext cx="380880" cy="0"/>
          </a:xfrm>
          <a:prstGeom prst="line">
            <a:avLst/>
          </a:prstGeom>
          <a:ln w="9360">
            <a:solidFill>
              <a:srgbClr val="535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809880" y="6172200"/>
            <a:ext cx="381240" cy="0"/>
          </a:xfrm>
          <a:prstGeom prst="line">
            <a:avLst/>
          </a:prstGeom>
          <a:ln w="9360">
            <a:solidFill>
              <a:srgbClr val="535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2133720" y="1218960"/>
            <a:ext cx="3276360" cy="190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2209680" y="3124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5486400" y="1218960"/>
            <a:ext cx="0" cy="1904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3200400" y="16002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200400" y="1600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4290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3598200" y="3352680"/>
            <a:ext cx="648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3400" spc="-1" strike="noStrike" baseline="-25000">
                <a:solidFill>
                  <a:srgbClr val="ff0000"/>
                </a:solidFill>
                <a:latin typeface="Arial"/>
              </a:rPr>
              <a:t>i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804280" y="1981080"/>
            <a:ext cx="6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29c8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6829c8"/>
                </a:solidFill>
                <a:latin typeface="Arial"/>
              </a:rPr>
              <a:t>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17"/>
          <p:cNvSpPr/>
          <p:nvPr/>
        </p:nvSpPr>
        <p:spPr>
          <a:xfrm>
            <a:off x="3048120" y="2514600"/>
            <a:ext cx="304560" cy="587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3431520" y="2495520"/>
            <a:ext cx="404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4a21"/>
            </a:gs>
            <a:gs pos="50000">
              <a:srgbClr val="c3aa37"/>
            </a:gs>
            <a:gs pos="100000">
              <a:srgbClr val="b24a21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quations for Projectiles Launched at an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472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Y-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+ a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yf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(sin 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</a:t>
            </a:r>
            <a:r>
              <a:rPr b="0" lang="en-US" sz="33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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2a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39060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y = (v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sin </a:t>
            </a:r>
            <a:r>
              <a:rPr b="0" lang="en-US" sz="33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t </a:t>
            </a: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½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en-US" sz="3300" spc="-1" strike="noStrike" baseline="-25000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3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762120" y="28954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7524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4479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7339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44956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60948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1447920" y="47242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5181480" y="16765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X-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= 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= consta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390600"/>
                <a:tab algn="l" pos="458640"/>
                <a:tab algn="l" pos="853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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x = (v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s </a:t>
            </a:r>
            <a:r>
              <a:rPr b="0" lang="en-US" sz="3400" spc="-1" strike="noStrike">
                <a:solidFill>
                  <a:srgbClr val="ffffff"/>
                </a:solidFill>
                <a:latin typeface="Symbol"/>
                <a:ea typeface="Symbol"/>
              </a:rPr>
              <a:t></a:t>
            </a:r>
            <a:r>
              <a:rPr b="0" lang="en-US" sz="3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6781680" y="48006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5791320" y="4800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35812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80880" y="3809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5638680" y="2895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3886200" y="47242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3:50:03Z</dcterms:created>
  <dc:creator>School District of Philadelphia</dc:creator>
  <dc:description/>
  <dc:language>en-US</dc:language>
  <cp:lastModifiedBy>School District of Philadelphia</cp:lastModifiedBy>
  <dcterms:modified xsi:type="dcterms:W3CDTF">2008-11-18T23:32:12Z</dcterms:modified>
  <cp:revision>20</cp:revision>
  <dc:subject/>
  <dc:title>Projectile Motion</dc:title>
</cp:coreProperties>
</file>